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6C2-99DE-42AA-B0E3-275E174B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4DE-56A6-490A-B2FF-29E42DA8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108-C10D-4E9C-877B-3EA42D4D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05C-BBAF-460F-B397-62FEE643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03F-4901-47BF-B7F9-D24A7A58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45A-9549-403A-A413-62B12DE2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B38-DFE7-4657-BCB1-13A4625B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41B-A77F-4D94-B7FC-8EFD0489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D98-EDDC-4C5F-880E-8458FD42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709-EA87-40EB-BCDA-E693C441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A73-A817-4AC7-A638-37081181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AAF-3721-4F7C-9097-E1EB538A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E017-01FD-4D14-8F28-C4918B6DDB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Verdana"/>
              </a:rPr>
              <a:t>Go Tell The Good New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Paul’s First Journey”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11, Lesson 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cts 1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s 79-8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906-44C7-44F9-956E-1855209C5D23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Verdana"/>
              </a:rPr>
              <a:t>Paul And Barnabas Return To Antioch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Verdana"/>
              </a:rPr>
              <a:t>Acts 14:21-28</a:t>
            </a:r>
            <a:endParaRPr b="0" lang="en-US" sz="32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ter preaching and making many disciples in Derbe, Paul and Barnabas returned through Lystra, Iconium, and Antio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 they returned through these cities, they strengthened the disciples encouraging them in the fai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appointed elders in every chur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then passed through Pisidia and came to Pamphyl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preached in Perga, then went down to Attal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6C2-B513-477E-9051-88CADD496318}" type="slidenum">
              <a:t>10</a:t>
            </a:fld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Verdana"/>
              </a:rPr>
              <a:t>Paul And Barnabas Return To Antioch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Verdana"/>
              </a:rPr>
              <a:t>Acts 14:21-28</a:t>
            </a:r>
            <a:endParaRPr b="0" lang="en-US" sz="32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om Attalia Paul and Barnabas sailed back to Antioch ending their first journ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re they gathered the church together and reported all that God had done with th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reported that God had opened a door of faith to the Genti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stayed here a long time with the disci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CD1-B21C-4546-A461-AD3AF39ABF74}" type="slidenum">
              <a:t>11</a:t>
            </a:fld>
          </a:p>
        </p:txBody>
      </p:sp>
    </p:spTree>
  </p:cSld>
  <p:transition>
    <p:wedg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Verdana"/>
              </a:rPr>
              <a:t>Points To Remember</a:t>
            </a: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churches needed qualified men to serve as eld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ders were appointed in every chur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men could be qualified quickly becaus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being a faithful J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miraculous gifts of the Spir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ch church had its own elders (plura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ch church was  self-gover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ders are to oversee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Verdana"/>
              </a:rPr>
              <a:t>onl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hat flock among which the Holy Spirit has made them shephe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4C1-4212-474F-AA0B-5BDB68D0E4B1}" type="slidenum">
              <a:t>12</a:t>
            </a:fld>
          </a:p>
        </p:txBody>
      </p:sp>
    </p:spTree>
  </p:cSld>
  <p:transition>
    <p:blinds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Verdan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B1B-7A81-4869-BDD9-2DB35ADCFC36}" type="slidenum">
              <a:t>2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t Iconium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cts 14:1-7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iving at Iconium from Antioch, Paul and Barnabas entered the synagogue and began to tea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great number of Jews and Greeks believ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ce again the Jews stirred up the Gentiles causing trou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vertheless, Paul and Barnabas stayed in Iconium a long time preaching bold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plot was hatched to abuse the men and to stone th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A48-2772-4673-AA64-1E06692AF6C3}" type="slidenum">
              <a:t>3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t Iconium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cts 14:1-7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ul and Barnabas learned of the plot and fled to the province of Lycaon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omans had divided this region into two parts. One part was made a part of Galatia and called Galactica Lycaonia. This part ruled by Rome. The other part was called Lycaonia Antiochiana and ruled by king Antioch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ul and Barnabas did not go beyond the Roman part of Lycaonia which contained the cities of Lystra and Derb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089E-FFCE-49A2-A4A3-05F7DE0FDF64}" type="slidenum">
              <a:t>4</a:t>
            </a:fld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Paul And Barnabas In Lystra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cts 14:8-20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riving in Lystra, Paul and Barnabas found a man who was lame in the fe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man had never walk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ul, seeing he had faith to be healed, said “stand up straight on your feet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an jumped up and walk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did this man get his faith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the people saw this, they cried out in their own language “the gods have come down in the likeness of men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CD7-704E-4136-B47F-9BA1515B20BF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Paul And Barnabas In Lystra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cts 14:8-20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nking Paul and Barnabas to be gods, the people called Barnabas, Zeus and Paul, Her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riest of Zeus, whose temple was in front of the city, brought oxen and garlands to the gates, intending to sacrif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Paul and Barnabas saw the sacrifice being prepared, they tore their clothes and ran into the crow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AB0-74E3-4AF8-857D-CBC9446CB76B}" type="slidenum">
              <a:t>6</a:t>
            </a:fld>
          </a:p>
        </p:txBody>
      </p:sp>
    </p:spTree>
  </p:cSld>
  <p:transition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Paul And Barnabas In Lystra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cts 14:8-20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asked the people, why are you doing this?  We are flesh and blood just like yo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then preached to the people to turn from vain things to the living God who made the heaven, the earth, the sea, and all the things in the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d did not leave Himself without witness for He did good, gave rain from heaven and fruitful seasons, filling their hearts with food and gladn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A4C-6B88-4867-B78D-B0E16C11F4C9}" type="slidenum">
              <a:t>7</a:t>
            </a:fld>
          </a:p>
        </p:txBody>
      </p:sp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Paul And Barnabas In Lystra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cts 14:8-20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ill, it was with great difficulty that Paul and Barnabas stopped the multitude from sacrificing to th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this sermon, Paul did not draw attention to Jewish history or to prophecies which would have meant nothing to these peo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ter this, Jews from Antioch and Iconium came and persuaded the multitude to stone Paul. Thinking him dead they dragged him out of the c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E70-D3F5-4755-AF06-0AAF0220E572}" type="slidenum">
              <a:t>8</a:t>
            </a:fld>
          </a:p>
        </p:txBody>
      </p:sp>
    </p:spTree>
  </p:cSld>
  <p:transition>
    <p:strips dir="l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Paul And Barnabas In Lystra</a:t>
            </a:r>
            <a:br>
              <a:rPr sz="3600"/>
            </a:br>
            <a:r>
              <a:rPr b="0" lang="en-US" sz="3600" spc="-1" strike="noStrike">
                <a:solidFill>
                  <a:srgbClr val="e3e3ff"/>
                </a:solidFill>
                <a:latin typeface="Verdana"/>
              </a:rPr>
              <a:t>Acts 14:8-20</a:t>
            </a:r>
            <a:endParaRPr b="0" lang="en-US" sz="3600" spc="-1" strike="noStrike">
              <a:solidFill>
                <a:srgbClr val="e3e3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the disciples stood around him, Paul got up and went back into the c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l’s recovery was miraculo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next day Paul and Barnabas departed to Derb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12B-BAB2-4592-9A57-37F8D75E8514}" type="slidenum">
              <a:t>9</a:t>
            </a:fld>
          </a:p>
        </p:txBody>
      </p:sp>
    </p:spTree>
  </p:cSld>
  <p:transition>
    <p:wheel spokes="1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04:52:28Z</dcterms:created>
  <dc:creator>billy lauderdale</dc:creator>
  <dc:description/>
  <dc:language>en-US</dc:language>
  <cp:lastModifiedBy>billy lauderdale</cp:lastModifiedBy>
  <dcterms:modified xsi:type="dcterms:W3CDTF">2006-11-13T18:19:38Z</dcterms:modified>
  <cp:revision>14</cp:revision>
  <dc:subject/>
  <dc:title>Go Tell The Good News “Paul’s First Journey”</dc:title>
</cp:coreProperties>
</file>